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8E05-2496-479B-9628-70C5ABFF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238C-FE30-425C-BE40-6E34B9E1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DA6A-A451-45E8-8AF3-4A982EE1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7396-CDF5-4A21-B5ED-510FE62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401D-F741-4E6F-AC36-23A1251D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282-D608-4354-8811-0871E3B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55B9-29C6-45BF-AF8F-26811A48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84FC-9412-473D-BB37-07D36BAA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7182-5F71-437B-881C-620CD500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DE7-7FF4-4721-A97A-2A575CC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93E8-C8A1-4C3C-8A81-C9FF4F0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CBF5-4519-4D3F-8D86-C4CEBEDD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E836-EA31-48A1-B666-20437B0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7F96-1177-44FE-A693-845C6E0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DFA-E1D4-44B4-8131-9D0294E5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C601-36BF-4ECE-BDA9-4981CC27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7A67-1E17-480C-8A5F-10AE1B78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7A40-7EEA-4EAD-9961-C6B50D2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8839-97F8-49AC-ACC2-72815939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D6A0-9096-463D-A1DC-7625C3D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5DE1-48C7-4896-BF43-5B9E251C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FB92-B4A8-413C-A053-9EAE652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B62F-E742-4DB1-9EC3-32841C6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D4CE-17F2-48F3-9814-83B6E3A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BF52-B351-4FE4-8896-BDDA6D7E86D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4F2-85BD-43DC-8FF2-4816ACC669B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nálise e Projeto de Sistem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sito Funcio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sito Não-Funcio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á vimos que para se iniciar o processo de desenvolvimento de sistemas devemos primeiramente realizar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REVI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 os futuros usuário do sistema e que hoje já desempenham os processos que serão implemen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mos também, que é somente apó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Á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tas entrevistas que podemos obter o valor aproximado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esenvolvimento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nicamente, o levantamento de requisitos identifica dois tipos de obje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Func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Não-Funcion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eza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 o que é requisito funcional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ão-func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FUN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tudo O QUE o sistema deve faz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todas as suas funciona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dentificados como vários pequenos proces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classificado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tes, quando o usuário tem conhecimento deste requis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tos, quando o usuário não tem conhecimento explícito do requis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ar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ultar CEP no site dos Cor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idar C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QUISITOS NÃO-FUN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restrições que se colocam sobre como o sistema deve realizar seus requisitos fun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strar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ase de dados deve ser acessada apenas por usuários autor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ltar CEP no site dos Cor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empo de resposta não deve exceder 30 segun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QUISITOS NÃO-FUN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classificado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terf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guranç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olerância a falh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igatorie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ig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j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i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 de Documentação de Requi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2637000"/>
          <a:ext cx="8291520" cy="224136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1513080"/>
                <a:gridCol w="511200"/>
                <a:gridCol w="496800"/>
                <a:gridCol w="1162080"/>
              </a:tblGrid>
              <a:tr h="432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- Tít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lto (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8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8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Não Fun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-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j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uso do mode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2637000"/>
          <a:ext cx="8291520" cy="244944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1513080"/>
                <a:gridCol w="511200"/>
                <a:gridCol w="496800"/>
                <a:gridCol w="1162080"/>
              </a:tblGrid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- Registrar Empréstimos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lto ( X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: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ma descrição suficientemente clara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Não Fun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-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j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 de A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unção só pode ser acessada por um usuário com perfil de operador ou sup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anç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ten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6:57:48Z</dcterms:created>
  <dc:creator>Daniela Louise de Assis Fernandes</dc:creator>
  <dc:description/>
  <dc:language>en-US</dc:language>
  <cp:lastModifiedBy>T2S</cp:lastModifiedBy>
  <dcterms:modified xsi:type="dcterms:W3CDTF">2007-08-20T13:33:25Z</dcterms:modified>
  <cp:revision>14</cp:revision>
  <dc:subject/>
  <dc:title>Análise e Projeto de Sistemas</dc:title>
</cp:coreProperties>
</file>